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5ACB-C65F-4335-88F1-C374390E3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2BFB-38C3-4B6D-A4C8-BB981AE4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3DAB-B22E-47C0-B7A6-80C41093D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57DD-20F5-442D-97CA-9D1304F48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F9CA-2391-4087-A118-82C2DF39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92B7-9118-4B36-A3B6-5BBCFE22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5AEE-E1BF-4314-8721-5124DB59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4074-5FF2-4981-AF15-2675D933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654F-7FD9-410C-A734-2A7B932C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0250-E25B-4ADD-AAEC-ECB0C2CD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04D1-0A86-4366-82CB-715EF07A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D5AC-5ED1-43D8-BA59-C306D599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E29F-EC5C-4383-869C-120DD6E9F01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2248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ABDOMINAL CAVIT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Greater_and_lesser_sac_1035[1]"/>
          <p:cNvPicPr/>
          <p:nvPr/>
        </p:nvPicPr>
        <p:blipFill>
          <a:blip r:embed="rId1"/>
          <a:stretch/>
        </p:blipFill>
        <p:spPr>
          <a:xfrm>
            <a:off x="395280" y="1197000"/>
            <a:ext cx="8236080" cy="54007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1547640" y="189000"/>
            <a:ext cx="61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Peritoneal Refle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Digest32"/>
          <p:cNvPicPr/>
          <p:nvPr/>
        </p:nvPicPr>
        <p:blipFill>
          <a:blip r:embed="rId1"/>
          <a:stretch/>
        </p:blipFill>
        <p:spPr>
          <a:xfrm>
            <a:off x="2340000" y="1628640"/>
            <a:ext cx="4825800" cy="49690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"/>
          <p:cNvSpPr/>
          <p:nvPr/>
        </p:nvSpPr>
        <p:spPr>
          <a:xfrm>
            <a:off x="468360" y="404640"/>
            <a:ext cx="734364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ccff"/>
                </a:solidFill>
                <a:uFillTx/>
                <a:latin typeface="Times New Roman"/>
              </a:rPr>
              <a:t>The folds of peritoneum are called</a:t>
            </a: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1- 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Omentu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f related to the stoma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072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2- 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Mesentry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f related to the small intest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3- 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mesocol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f related to the large intest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C:\Documents and Settings\PC\Desktop\eman\ZOO%20234%20The%20Mesentery%20&amp;%20Mesocolon.jpg"/>
          <p:cNvPicPr/>
          <p:nvPr/>
        </p:nvPicPr>
        <p:blipFill>
          <a:blip r:embed="rId1"/>
          <a:stretch/>
        </p:blipFill>
        <p:spPr>
          <a:xfrm>
            <a:off x="2771640" y="2637000"/>
            <a:ext cx="42674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50560" y="765000"/>
            <a:ext cx="4105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4- </a:t>
            </a: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ligament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g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igaments of the liver, falciform, right and left triangul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igaments of the spleen; gastrosplenic and lienore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liver"/>
          <p:cNvPicPr/>
          <p:nvPr/>
        </p:nvPicPr>
        <p:blipFill>
          <a:blip r:embed="rId1"/>
          <a:stretch/>
        </p:blipFill>
        <p:spPr>
          <a:xfrm>
            <a:off x="4500720" y="533520"/>
            <a:ext cx="464328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ccff"/>
                </a:solidFill>
                <a:uFillTx/>
                <a:latin typeface="Times New Roman"/>
              </a:rPr>
              <a:t>The main contents of the peritoneal folds ar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581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- blood vessels supplying the related org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- autonomic nerve plex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- lymphatics and lymph nodes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4- extraperitoneal connective tiss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5- the organs themselves ( for freely mobile organ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14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peritoneum (peritoneal sac) is a closed sac in male however in females it is not completely closed as the two lateral ends of the Fallopian tubes open in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ccff"/>
                </a:solidFill>
                <a:latin typeface="Times New Roman"/>
              </a:rPr>
              <a:t>The peritoneal cavity is divided into two main sac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3957480" cy="3657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Greater sa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Lesser sa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 two sacs are connected together throug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he epiploic foramen (foramen of the lesser sa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5292720" y="1989000"/>
            <a:ext cx="360036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792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ccff"/>
                </a:solidFill>
                <a:uFillTx/>
                <a:latin typeface="Times New Roman"/>
              </a:rPr>
              <a:t>Greater sac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4103640" cy="2666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t is the part of peritoneum that is present just behind the anterior abdominal w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9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4570560" y="1989000"/>
            <a:ext cx="43243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400" spc="-1" strike="noStrike" u="sng">
                <a:solidFill>
                  <a:srgbClr val="ffccff"/>
                </a:solidFill>
                <a:uFillTx/>
                <a:latin typeface="Times New Roman"/>
              </a:rPr>
              <a:t>Lesser sac (omental bursa)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560" y="2742840"/>
            <a:ext cx="4249800" cy="3422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t is a small diverticulum of the peritoneal sac that lies behind the stoma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Greater_and_lesser_sac_1035[1]"/>
          <p:cNvPicPr/>
          <p:nvPr/>
        </p:nvPicPr>
        <p:blipFill>
          <a:blip r:embed="rId1"/>
          <a:stretch/>
        </p:blipFill>
        <p:spPr>
          <a:xfrm>
            <a:off x="4572000" y="2421000"/>
            <a:ext cx="4321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ccff"/>
                </a:solidFill>
                <a:uFillTx/>
                <a:latin typeface="Times New Roman"/>
              </a:rPr>
              <a:t>Boundaries of the lesser sac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4176720" cy="4687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Anterior wal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rom above downward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- lesser oment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- peritoneum covering the posterior surface of the stomach and 1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inch of duoden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3- anterior 2 layers of the greater oment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5" descr="Greater_and_lesser_sac_1035[1]"/>
          <p:cNvPicPr/>
          <p:nvPr/>
        </p:nvPicPr>
        <p:blipFill>
          <a:blip r:embed="rId1"/>
          <a:stretch/>
        </p:blipFill>
        <p:spPr>
          <a:xfrm>
            <a:off x="4572000" y="2421000"/>
            <a:ext cx="4321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 abdominal cavity is a large cavity so it is subdivided descriptively  into 9 reg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is division is made by 2 horizontal planes and two vertical pla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99ff"/>
                </a:solidFill>
                <a:uFillTx/>
                <a:latin typeface="Times New Roman"/>
              </a:rPr>
              <a:t>The vertical plane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y are one on each s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ach extends from the mid-clavicular point down to the mid-inguinal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99ff"/>
                </a:solidFill>
                <a:uFillTx/>
                <a:latin typeface="Times New Roman"/>
              </a:rPr>
              <a:t>The horizontal planes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ubcostal pla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ter-tubercular pla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560" y="549000"/>
            <a:ext cx="4321080" cy="5546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Posterior wal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ower pa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rmed by the posterior 2 layers of the greater oment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upper pa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s formed by the peritoneum covering the following structur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4716360" y="549360"/>
            <a:ext cx="425160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404280"/>
            <a:ext cx="3384360" cy="56912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dy of pancre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Upper part of abdominal aor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ft crus of diaphrag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ft kidney and left suprarenal g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4356000" y="843120"/>
            <a:ext cx="4322880" cy="51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1649520" y="317520"/>
            <a:ext cx="5844960" cy="6014880"/>
            <a:chOff x="1649520" y="317520"/>
            <a:chExt cx="5844960" cy="6014880"/>
          </a:xfrm>
        </p:grpSpPr>
        <p:grpSp>
          <p:nvGrpSpPr>
            <p:cNvPr id="92" name="Group 3"/>
            <p:cNvGrpSpPr/>
            <p:nvPr/>
          </p:nvGrpSpPr>
          <p:grpSpPr>
            <a:xfrm>
              <a:off x="1654200" y="322200"/>
              <a:ext cx="5835600" cy="6005520"/>
              <a:chOff x="1654200" y="322200"/>
              <a:chExt cx="5835600" cy="6005520"/>
            </a:xfrm>
          </p:grpSpPr>
          <p:sp>
            <p:nvSpPr>
              <p:cNvPr id="93" name="Rectangle 4"/>
              <p:cNvSpPr/>
              <p:nvPr/>
            </p:nvSpPr>
            <p:spPr>
              <a:xfrm>
                <a:off x="1654200" y="322200"/>
                <a:ext cx="5835600" cy="600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388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5"/>
              <p:cNvSpPr/>
              <p:nvPr/>
            </p:nvSpPr>
            <p:spPr>
              <a:xfrm>
                <a:off x="1654200" y="322200"/>
                <a:ext cx="5835600" cy="6005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Rectangle 6"/>
            <p:cNvSpPr/>
            <p:nvPr/>
          </p:nvSpPr>
          <p:spPr>
            <a:xfrm>
              <a:off x="1649520" y="317520"/>
              <a:ext cx="5844960" cy="60148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6" name="Picture 7" descr="Loading: 'Lymph Vessels and Nodes of Posterior Abdominal Wall and Penis' - Please wait..."/>
          <p:cNvPicPr/>
          <p:nvPr/>
        </p:nvPicPr>
        <p:blipFill>
          <a:blip r:embed="rId1"/>
          <a:stretch/>
        </p:blipFill>
        <p:spPr>
          <a:xfrm>
            <a:off x="1822320" y="368280"/>
            <a:ext cx="44118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Times New Roman"/>
              </a:rPr>
              <a:t>Boundaries of the lesser sac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367344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Left border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by the gastrosplenic &amp; lienorenal liga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ight bord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piploic foramen (foramen of Winslow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4284720" y="1557360"/>
            <a:ext cx="4680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ccff"/>
                </a:solidFill>
                <a:uFillTx/>
                <a:latin typeface="Times New Roman"/>
              </a:rPr>
              <a:t>Epiploic forame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2971440"/>
            <a:ext cx="4392720" cy="3265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t is a slit-like opening connecting the greater with the lesser sa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4859280" y="2421000"/>
            <a:ext cx="4176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7925040" cy="936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</a:t>
            </a:r>
            <a:r>
              <a:rPr b="0" lang="en-US" sz="4000" spc="-1" strike="noStrike">
                <a:solidFill>
                  <a:srgbClr val="ffccff"/>
                </a:solidFill>
                <a:latin typeface="Times New Roman"/>
              </a:rPr>
              <a:t>Boundaries of the epiploic forame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76720" y="2438280"/>
            <a:ext cx="3888000" cy="4114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Anterior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Free margin of lesser omentum containing bile duct, portal vein &amp; hepatic arte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Posterior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V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2" descr="C:\Documents and Settings\Main\Desktop\liver\liver-gallbladder01.jpg"/>
          <p:cNvPicPr/>
          <p:nvPr/>
        </p:nvPicPr>
        <p:blipFill>
          <a:blip r:embed="rId1"/>
          <a:stretch/>
        </p:blipFill>
        <p:spPr>
          <a:xfrm>
            <a:off x="250920" y="1413000"/>
            <a:ext cx="3816360" cy="25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446040" y="4149720"/>
            <a:ext cx="342576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7960" y="838080"/>
            <a:ext cx="4244760" cy="5615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Superior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audate lobe of the Li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Inferiorl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part of duodenu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C:\Documents and Settings\Main\Desktop\liver\liver-gallbladder01.jpg"/>
          <p:cNvPicPr/>
          <p:nvPr/>
        </p:nvPicPr>
        <p:blipFill>
          <a:blip r:embed="rId1"/>
          <a:stretch/>
        </p:blipFill>
        <p:spPr>
          <a:xfrm>
            <a:off x="179280" y="981000"/>
            <a:ext cx="424836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 u="sng">
                <a:solidFill>
                  <a:srgbClr val="ffff00"/>
                </a:solidFill>
                <a:uFillTx/>
                <a:latin typeface="Times New Roman"/>
              </a:rPr>
              <a:t>Lesser Sac (omental bursa) – Clinical Correlation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esser sac has important clinical significance. As it is located posterior to the stomach, the posterior wall of the stomach is in contact with the sa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 any posterior ulceration of the stomach will cause fluid to pass into this sa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an injured pancreas or inflamed pancreas will cause pancreatic secretions to enter the lesser sac. This can cause a pancreatic pseudocy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sometimes the loop of the small intestine will enter the epiploic foramen and go into the lesser sa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oundaries of the epiploic foramen contain important vessels, hence surgical removal of the intestine is deemed danger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ff"/>
                </a:solidFill>
                <a:latin typeface="Times New Roman"/>
              </a:rPr>
              <a:t>Nerve supply of the peritoneum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Parietal peritoneu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pplied by somatic nerves that supply the abdominal wall (lower 5 intercostal &amp; subcostal nerves) &amp; diaphragm (phrenic nerv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parietal peritoneum is senstive to pain, temperature and tou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99"/>
                </a:solidFill>
                <a:latin typeface="Times New Roman"/>
              </a:rPr>
              <a:t>The visceral peritoneu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upplied by autonomic nerves that supplies the visce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t is only sensitive to traction and distension of the visce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cc99"/>
                </a:solidFill>
                <a:uFillTx/>
                <a:latin typeface="Times New Roman"/>
              </a:rPr>
              <a:t>Subcostal pla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t lies at the lowest limit of the costal margin (level of L3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cc99"/>
                </a:solidFill>
                <a:uFillTx/>
                <a:latin typeface="Times New Roman"/>
              </a:rPr>
              <a:t>Inter-tubercular pla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t passes between the tubercles of the two iliac crests (level of L5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78544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87850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7854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ff"/>
                </a:solidFill>
                <a:latin typeface="Times New Roman"/>
              </a:rPr>
              <a:t>The divisions of the abdominal cavity ar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486080" y="1981080"/>
          <a:ext cx="6172200" cy="425304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108520"/>
              </a:tblGrid>
              <a:tr h="1351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ight hypo-chondr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8185e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pigastr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8185e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eft hypo-chondr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8185e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352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ight lumb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8185e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Umbili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8185e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eft lumb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8185e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549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ight iliac fos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8185e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Hypogastr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suprapubi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eg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8185e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eft iliac fos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8185e"/>
                        </a:gs>
                        <a:gs pos="100000">
                          <a:srgbClr val="3333cc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3D706001"/>
          <p:cNvPicPr/>
          <p:nvPr/>
        </p:nvPicPr>
        <p:blipFill>
          <a:blip r:embed="rId1"/>
          <a:stretch/>
        </p:blipFill>
        <p:spPr>
          <a:xfrm>
            <a:off x="2286000" y="1380960"/>
            <a:ext cx="4095720" cy="40960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3600360" y="24573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99ff"/>
                </a:solidFill>
                <a:uFillTx/>
                <a:latin typeface="Times New Roman"/>
              </a:rPr>
              <a:t>Transpyloric plan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t cuts the body of the first lumbar verteb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t lies midway between the xiphoid process of sternum and umbilic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99"/>
                </a:solidFill>
                <a:latin typeface="Times New Roman"/>
              </a:rPr>
              <a:t>Structures at this leve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ylorus of stom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ilum of left kid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undus of gall blad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ody of L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600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Peritoneu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00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ff"/>
                </a:solidFill>
                <a:latin typeface="Times New Roman"/>
              </a:rPr>
              <a:t>Peritoneum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413000"/>
            <a:ext cx="4173480" cy="5184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t is a closed serous sac present inside the abdominal cav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peritoneum looks like a ball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intra-abdominal organs have different relations with the peritoneu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 Enclosed within a fold of peritoneum (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intraperitoneal)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and so freely mob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 Present behind the peritoneum and so they are fixed; 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</a:rPr>
              <a:t>retroperitone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3888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333000"/>
            <a:ext cx="5184720" cy="60958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Times New Roman"/>
              </a:rPr>
              <a:t>Parietal peritoneu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 part of peritoneum that lines the abdominal w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Times New Roman"/>
              </a:rPr>
              <a:t>Visceral peritoneum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 part of peritoneum that surrounds the abdominal organs (viscera).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Times New Roman"/>
              </a:rPr>
              <a:t>Peritoneal ca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s a potential space between the parietal and visceral peritoneum that contains a very thin film of flu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crease in the amount of this fluid is called </a:t>
            </a:r>
            <a:r>
              <a:rPr b="1" i="1" lang="en-US" sz="2800" spc="-1" strike="noStrike" u="sng">
                <a:solidFill>
                  <a:srgbClr val="00cc99"/>
                </a:solidFill>
                <a:uFillTx/>
                <a:latin typeface="Times New Roman"/>
              </a:rPr>
              <a:t>asci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5543640" y="1484280"/>
            <a:ext cx="36003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23:42:16Z</dcterms:created>
  <dc:creator>مهندس / ماجد صفوت يوسف</dc:creator>
  <dc:description/>
  <dc:language>en-US</dc:language>
  <cp:lastModifiedBy>Shawki Tail</cp:lastModifiedBy>
  <dcterms:modified xsi:type="dcterms:W3CDTF">2014-04-09T10:55:32Z</dcterms:modified>
  <cp:revision>22</cp:revision>
  <dc:subject/>
  <dc:title>ABDOMINAL CAVITY</dc:title>
</cp:coreProperties>
</file>